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FA3-0153-4CEE-8DDB-80B4F966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EF9-CFBF-4145-9717-C9A580DF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391-601E-46E5-87A8-9578B21D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E7A-9242-414B-8D4D-4FE875BC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410-8B3E-41CA-AEE3-841E96C2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954-6759-4AA9-BD49-503D006F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3E3-6365-477C-BEDF-D589816B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B4A-594A-41C1-ADDE-E96C5A63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8FF-DA44-4992-9D89-1E764FB2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013-EAD8-41E6-B336-CA4FED13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B90-23AC-41D3-959B-736E02AA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7CB-63D2-4847-B4DC-7D645CE6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7B18-1E0C-47BA-AA96-C3546526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773800">
            <a:off x="1752480" y="1294920"/>
            <a:ext cx="7239240" cy="25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0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gg Olym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Bernard MT Condensed"/>
              </a:rPr>
              <a:t>10 MINU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solidFill>
            <a:srgbClr val="ecfb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RAINSTORM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226692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85800" y="121932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Bernard MT Condensed"/>
              </a:rPr>
              <a:t>15 MINU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cfba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ba3"/>
                </a:solidFill>
                <a:latin typeface="Arial Black"/>
              </a:rPr>
              <a:t>Draw a prelimina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cfba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ba3"/>
                </a:solidFill>
                <a:latin typeface="Arial Black"/>
              </a:rPr>
              <a:t>BE SPECIFI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cfba3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fba3"/>
                </a:solidFill>
                <a:latin typeface="Arial Black"/>
              </a:rPr>
              <a:t>Include how materials will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cfba3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fba3"/>
                </a:solidFill>
                <a:latin typeface="Arial Black"/>
              </a:rPr>
              <a:t>Show how things will be att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cfba3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fba3"/>
                </a:solidFill>
                <a:latin typeface="Arial Black"/>
              </a:rPr>
              <a:t>Show how the egg will be pla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cfba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ba3"/>
                </a:solidFill>
                <a:latin typeface="Arial Black"/>
              </a:rPr>
              <a:t>Present design to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53416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Bernard MT Condensed"/>
              </a:rPr>
              <a:t>25 minut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 Managers get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uild your struct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raw fin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final design must be very deta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should be easy enough to read that a complete stranger could get the plans and build an identical stru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62320" y="152280"/>
            <a:ext cx="4751280" cy="6158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Bernard MT Condensed"/>
              </a:rPr>
              <a:t>TIME’S UP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ject Managers please bring structures to front of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2:48:23Z</dcterms:created>
  <dc:creator>SKPS User</dc:creator>
  <dc:description/>
  <dc:language>en-US</dc:language>
  <cp:lastModifiedBy>SKPS User</cp:lastModifiedBy>
  <dcterms:modified xsi:type="dcterms:W3CDTF">2009-02-04T22:54:28Z</dcterms:modified>
  <cp:revision>3</cp:revision>
  <dc:subject/>
  <dc:title>Slide 1</dc:title>
</cp:coreProperties>
</file>